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0"/>
            <a:ext cx="86058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1665360"/>
            <a:ext cx="8605800" cy="22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154760"/>
            <a:ext cx="8605800" cy="22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0"/>
            <a:ext cx="86058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1665360"/>
            <a:ext cx="4199400" cy="22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1665360"/>
            <a:ext cx="4199400" cy="22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154760"/>
            <a:ext cx="4199400" cy="22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154760"/>
            <a:ext cx="4199400" cy="22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0"/>
            <a:ext cx="86058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1665360"/>
            <a:ext cx="2770920" cy="22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320" y="1665360"/>
            <a:ext cx="2770920" cy="22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9200" y="1665360"/>
            <a:ext cx="2770920" cy="22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154760"/>
            <a:ext cx="2770920" cy="22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320" y="4154760"/>
            <a:ext cx="2770920" cy="22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9200" y="4154760"/>
            <a:ext cx="2770920" cy="22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0"/>
            <a:ext cx="86058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166536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0"/>
            <a:ext cx="86058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166536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0"/>
            <a:ext cx="86058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1665360"/>
            <a:ext cx="41994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1665360"/>
            <a:ext cx="41994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0"/>
            <a:ext cx="86058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0"/>
            <a:ext cx="8605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0"/>
            <a:ext cx="86058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1665360"/>
            <a:ext cx="4199400" cy="22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1665360"/>
            <a:ext cx="41994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154760"/>
            <a:ext cx="4199400" cy="22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0"/>
            <a:ext cx="86058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1665360"/>
            <a:ext cx="41994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665360"/>
            <a:ext cx="4199400" cy="22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154760"/>
            <a:ext cx="4199400" cy="22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0"/>
            <a:ext cx="86058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1665360"/>
            <a:ext cx="4199400" cy="22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665360"/>
            <a:ext cx="4199400" cy="22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154760"/>
            <a:ext cx="8605800" cy="22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0"/>
            <a:ext cx="8605800" cy="9936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c4c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1665360"/>
            <a:ext cx="8605800" cy="47656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Reverse Engineering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rew Tomk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T 48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 April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OllyDbg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Has a more windows fe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Latest production release on May 23, 2004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Latest alpha release on March 11, 2008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Only 32bit binaries available, but unlike SoftICE, they're free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Disassembly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Most programs when compiled are turned into architecture specific machine code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Disassemblers just take the binary executable and display it's assembly code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Need a good understanding of assembly and usually a hex editor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W32Dasm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240" y="1649160"/>
            <a:ext cx="420048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No longer exists?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Basically an assembly debugger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Can't edit program directly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37080" y="1762200"/>
            <a:ext cx="5543640" cy="41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! ATTENTION !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The following example is done for educational purposes only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Do not attempt similar types of reverse engineering which is considered “cracking”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If it is a good program or one that you use often, pay for it, software developers deserve the money for creating the program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Simple program that creates crosswords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Program is a demo, won't let you save puzzles greater than 10x10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However all the code is actually there, it is just crippled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10x10 Save check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984744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Fixed save check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795320"/>
            <a:ext cx="983124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Nag screen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5920" y="1665000"/>
            <a:ext cx="420048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Pops up every time the program starts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Does not exist in the non-demo version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Serves no other function than to nag you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908600" y="1873080"/>
            <a:ext cx="5005440" cy="41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Nag screen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9360" y="3213000"/>
            <a:ext cx="897552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Nag screen fixed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2925720"/>
            <a:ext cx="9023400" cy="72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4600" y="5698800"/>
            <a:ext cx="88981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Please don't ever do this, it makes children cry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Reverse Engineering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Process of analyzing a subject system to create representations of the system at a higher level of abstraction”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Going backwards through the development cycle”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Discovering how a device works usually by taking it apart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Decompilation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50880" y="1371600"/>
            <a:ext cx="5057640" cy="5715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996240" y="1879560"/>
            <a:ext cx="173340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Common examples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Samba – Program for Unix like systems that allows file sharing with Windows machines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Wine – Program for Unix like systems that attempts to emulate Windows API calls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OpenOffice – Open source program which emulates Microsoft Office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Interoperability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Lost documentation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Product analysis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Security auditing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Removal of access restrictions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Creation of duplicates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Fraud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Interoperability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Getting a device / piece of software to work on another platform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Linux drivers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Learning the protocols the device uses to communicate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Lost Documentation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Similar to interoperability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Need to relearn how the device operates, how the device communicates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Usually only done on antiquated devices or integrated circuits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Product Analysis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To determine how the product works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Can be used to estimate product costs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Determine if a product is infringing on patent rights (legalities?)</a:t>
            </a: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Security Auditing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An audit determines if systems are safeguarding assets, maintaining data integrity, and operating effectively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The company usually knows about its own products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Used to evaluate risk of new products it may be creating itself or using from other companies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Access Restriction Removal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Possible legal issues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Usually done to demo programs, full version released as warez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Sometimes it becomes legal when a program or game becomes very old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Create Duplicates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This can be very difficult, trying to reproduce the entire system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Reverse engineering of copy restrictions on CDs and other media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In certain cases the user is allowed a duplicate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Fraud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Any device (usually embedded or integrated) that stores critical information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Most common example is of credit cards / smart cards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Passwords and other information are often stored on the card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REing Mechanical Devices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39800" y="1665000"/>
            <a:ext cx="5610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Not what you may think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Actually the reverse of the engineering process, going from a finished product to design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Used to “digitize” old parts and systems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84920" y="2635200"/>
            <a:ext cx="2913120" cy="24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Military applications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The famous Engima machine from WWII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Jerry cans invented by the Germans in WWII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Tupolev Tu-4: American B-29 bombers are forced to land in the USSR, within a few years the Soviets created the Tu-4 an almost exact replica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A Taiwanese AIM-9B missile hit a Chinese MiG without exploding, was later reproduced by the Soviets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Legalities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Generally considered lawful if the system was obtained legitimately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"...[W]here disassembly is the only way to gain access to the ideas and functional elements embodied in a copyrighted computer program and where there is a legitimate reason for seeking such access, disassembly is a fair use of the copyrighted work, as a matter of law."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4c4c4c"/>
                </a:solidFill>
                <a:latin typeface="Arial"/>
              </a:rPr>
              <a:t>http://en.wikipedia.org/wiki/Reverse_engineering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4c4c4c"/>
                </a:solidFill>
                <a:latin typeface="Arial"/>
              </a:rPr>
              <a:t>Chikofsky, E.J.; J.H. Cross II (January 1990). "Reverse Engineering and Design Recovery: A Taxonomy in IEEE Software". IEEE Computer Society: 13–17.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4c4c4c"/>
                </a:solidFill>
                <a:latin typeface="Arial"/>
              </a:rPr>
              <a:t>Sega v. Accolade, 203 F.3d 596 (9th Cir. 1993)</a:t>
            </a:r>
            <a:r>
              <a:rPr b="0" lang="en-GB" sz="2800" spc="-1" strike="noStrike">
                <a:solidFill>
                  <a:srgbClr val="4c4c4c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4c4c4c"/>
                </a:solidFill>
                <a:latin typeface="Arial"/>
              </a:rPr>
              <a:t>http://www4.law.cornell.edu/uscode/html/uscode17/usc_sec_17_00001201----000-.html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1) What is the definition of reverse engineering in terms of software?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2) List three reasons to reverse engineer something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Antikythera mechanism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800" y="1665000"/>
            <a:ext cx="420048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A famous example of reverse engineering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Ancient mechanical computer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Discovered in wreck in 1900, dated around 150-100 BC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49800" y="2178000"/>
            <a:ext cx="420048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Development Cycle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5760" y="1665000"/>
            <a:ext cx="420048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The waterfall mod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Reverse Engineering moves through this process in reverse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May not end up with the same implementation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292640" y="1909800"/>
            <a:ext cx="5786280" cy="38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Software Techniques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Analysis through observation of information exchange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Disassembly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Decompilation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Analysis Through Observation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1665000"/>
            <a:ext cx="8607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Very common for protocol reverse engineering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Usually use a bus analyzer and or packet sniffers.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Can be assisted through the use of low-level debuggers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SoftICE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51600" y="1665000"/>
            <a:ext cx="420048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Kernel mode debugger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Originally played role of operating system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Sold for $386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4c4c4c"/>
                </a:solidFill>
                <a:latin typeface="Arial"/>
              </a:rPr>
              <a:t>Discontinued April 3rd, 2006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1803240"/>
            <a:ext cx="51274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-360"/>
            <a:ext cx="8607240" cy="99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4c4c4c"/>
                </a:solidFill>
                <a:latin typeface="Arial"/>
              </a:rPr>
              <a:t>OllyDbg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52560" y="1355760"/>
            <a:ext cx="8281800" cy="516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